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AE1E-1FB6-405D-8F4E-55D5F983F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8DF4-E05C-4978-8B3B-E66C3C5A6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A99A8C-9BA1-47CE-9E55-7670D1F3D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D42BD2-F33E-4CE0-9D40-0FAC6AFBC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D4A06C-6B55-4DD3-A008-89907DA36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02D0ED-67F8-45C0-AAEB-335B921C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B1F2C0-3CEF-45E8-A955-B7D65496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18EE89-3CE7-4D79-84B1-6AAE4139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3044EF-3353-4224-BA2F-1B19AB1CF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64585E-B88E-4895-A0F7-C2645914D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4000B1-E64F-4BF1-8D1F-3185D2E84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C0CBD8-B7E9-4AF8-8F46-14F96EAF9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6B23-AB9C-4F2F-9B65-4562199E1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AE1524-4E7C-4CA2-8176-41CAF3574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A6CC45-4D93-447C-B829-6405CCF70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788653-5D7C-4DF8-8B12-479012B06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E32E50-7887-45FA-A356-0E142B0C0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3F0B12-82F8-44FE-81BB-57682FE2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0D5B37-9BAA-4389-991B-08CB57F0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BBB4E2-CEA3-419E-BD79-4DD1015D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A3FB72-DA1F-4DC2-A4E0-62743431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22883C-ABF5-47A2-83B9-D4313091B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AC2285-6B6A-4387-B0AF-18C0C2221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9DF6-ABC6-4BC0-94D9-0CC3C683F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F145B5-15D4-4869-9F6F-FFA50CD01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B016BA-92B9-4431-94DB-1FD2FA47E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13348E-CC85-4BEF-9CF5-56B31C70D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D02176-B8CE-4124-BA5D-19BFA27F1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77692A-499A-4FB4-9CAC-4A5A540B2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C32F92-6D45-4ED4-80B8-8AD57E2F8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6617DF-9F28-482F-84AF-3822DF1D2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A53387-7DF9-4C0E-A947-BB6D9E07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BF841E-3E6E-416E-A605-F611A331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ECBDBF-D87E-4722-8CB4-E2D4C744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4BE36-A2EF-4AA3-9B8B-9188F85B5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F3E68B-BF83-4D57-8650-98FFE6BA9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776579-719F-4112-9897-D75836014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6AB0E5-E141-4D19-A754-1894E8336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C3914B-16A0-43A7-B80D-59F012972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AD8C4D-EED6-452E-A33E-1052F07F4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23A19C-085F-4C0C-AF87-F744D2ED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0DDC52-E3C5-486B-86EF-0C6134A4B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8273D9-AA6A-49DD-A48A-5E9FBA373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EC4C1D-BE56-4638-B717-D9F640E5E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102684-EB45-47F8-A76A-FE8752C3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BDB29-A777-4B65-869C-CB75126BB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045A18-6EED-425B-B9E0-CCEF2CF0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6A33B1-B6C7-44C5-8D24-B5F3B2DF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E1529D-6784-4D17-AA8A-B9A3C37E2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DAACA8-D0DC-40E6-92FA-D60E4AC91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E55087-2155-427C-9D31-3BD898923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1217C1-0F00-4980-A113-3C07FC5CE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3922E4-B061-424D-954E-CEA8F04D3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B1EE47-BD79-4763-9C45-3D38E998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9D7C3B-92D4-4269-8389-266F876B5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15F1E2-F6C4-4D8C-AE1A-7A75026E1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1270C-E5BB-4023-B388-6DA407A5A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AC25EB-6643-4D20-A49B-D6FBDE617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A45D41-0EB4-42DF-B7CA-2EAB12F7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6E5449-CA4C-46E1-A157-054162F9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3B7DF9-322B-4232-89B9-BE13F7DD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3E1352-DCF6-4C34-8596-6B1EE92B8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089E7D-FE8F-463D-A3A1-697D39AC6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83A2BE-007C-4D3C-AE94-F80E7E84B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F38350-476D-47C4-A58A-9C39D1502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56E7F5-289B-4098-B856-D32876A0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B8B74A-E8C5-4F9D-A184-682E54B19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BCB60-7B4D-48D9-85F1-8C9556B37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3D37C9-DB61-4AA4-B9EF-28653A811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D21236-E527-4BD5-BEB6-6FC5DF753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5026C6-3BC4-4169-81EE-D6F1AAF74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0E2846-CE50-4666-B5F6-5C5AB908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97CEBC-3606-46F6-B7D9-CF3531AB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B2158A-B878-4C1A-90FC-59585CF6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788568-B0DB-418E-8B1E-CA19FFD9B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7F7659-2D35-43ED-A89A-480ADAEBA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B4BBA3-CCE5-4733-97EB-149275C23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20F2C2-87E5-4823-B074-A11EDADB4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20843-8858-4BF3-AAB4-E57A0EB8F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3651C8-689A-49F6-B37E-C558D3F8A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54A543-7E58-4C58-82BB-0EE822524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3B63E1-87DB-458A-A691-08FED1C1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EA61EB-F65D-42D0-AE3D-30FE5FCB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3EF9F3-DBA7-4F47-AA68-497541627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2BC25C-EEED-41FE-BC1A-C29CC429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3D0BB8-CDA0-4B19-B4D8-20B7B44F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1C4D1F-DA9A-444E-82E1-0EB2EC1D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5188E4-FB09-41F7-8971-9BEC316DD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C995A4-493C-4ACE-9CC8-5F5C17513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F21C4-BA63-4C2F-ABEF-2ECB8FBC1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D7AA48-FF71-4FAE-8DDE-AC050EC3B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43A6D1-B7FE-4E45-970E-DFA8112B6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C9B506-5475-4EDB-8E64-C0946E401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3AC8D7-4ED6-43E8-AD12-7EB9430C6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638BA8-191F-4290-B757-59EF79F68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84FB14-8FA1-466B-9BEA-1F6D8451F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603876-F132-4665-B3F4-04F114E7C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077606-610D-4A8B-8AB9-6456D174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7FF1A3-414A-4EB9-997A-6C5DDA69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A99762-D4E0-4243-ADAA-927DFE08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56D84-7904-4E64-82C9-359FF100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A5DE9A-30F1-4FA0-975F-11E237C5F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96CAD7-AE49-4756-A490-BC115BA88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FFE7D0-A839-4B5E-B545-215446941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449DEA-8AE6-409F-8725-CC75BBE9F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35AEF6-7253-432B-B131-A68155CE0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9F0DE7-C3E9-45E5-9BDA-0CFDE73F6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8B6060-9185-4179-963A-5F14110CC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F1830F-7B0E-4271-BAD0-12FCBDF4D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9F647C-6F54-4857-9540-867D8DEA8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B4533C-65E6-45EA-8B3C-53CE3F73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F146-5010-4C9B-8B95-6799DEE3A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A7F79-851F-4A4D-B09E-2301CF1E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29BB16-A8EB-4968-8051-93631C82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9594AA-270D-4840-90DE-E4029423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0C8C6E-AD69-4699-8B65-6BDA174C6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DC2F2A-340E-4720-BBC5-3703DB3AC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9634AB-F82B-4FC7-8F72-479E1CDE6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520483-23A5-4DCF-8AEB-EFCB345FD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D52C15-241F-437F-AB9A-67C85496E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C6E5C5-E025-4216-A942-E3454A283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7942ED-056F-400D-8A21-12355D65A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D90BD9-96DB-4432-AF19-9D2A404C3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92BB3-383A-405D-A6A7-9DAA7EE1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F8651D-EDBD-4B00-9907-87A22E90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A5D153-B00A-4FC8-8F29-976CED03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9E6DFC-F59E-4D8F-B3DF-44C19214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6462FF-4259-4075-B027-A22FD852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7B832F-94E3-4C32-804B-6865FE6B5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DB0CE0-EB8E-4AB1-81F4-BA8449A81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C13A37-F99C-4326-8B43-566ECE3CA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E8F647-4568-4638-8096-4BF8978E5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781620-AC9D-410E-B6D4-3831EB0C6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6B7DF8-3116-4D41-A3D4-C4BE517F1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7DB73-B26B-4122-B52F-7BBBBF5DD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1ADA8B-8D33-471A-B7D2-3878F22F7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D333A9-4AE2-4A58-833A-FA2F76201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6078A4-3C6A-4E6B-B7A6-9C18E875A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14EA99-BD2D-42E2-A752-62FFAC37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5519BC-50EC-4EFE-B28D-71A31F6B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DD952D-3A07-4EA3-8ED0-EF2FF620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E15B50-62ED-48D0-8EFD-37F44365C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4F289D-6B12-447A-96BF-1ADEB3B0A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CB9B0F-83AD-4AC2-B1CB-CC72A8960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D4C82B-B9A4-486C-980F-9A8E82A19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D6922-6A6A-4E78-8611-AF9BBF813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1C16F8-70C0-47B2-B898-0646A5168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95F41E-9203-41DE-A228-927FBFB8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7AAF8F-3718-4B24-BEF5-67D525158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EE18B2-6D1D-4658-A7DE-981070C86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037B63-B296-4922-89A4-989927189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76733C-20DF-411E-B365-AE9464E0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41F8E2-692A-4CB5-8BFA-B470AAB7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15C07B-880E-4045-907D-F2395DEF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4EF2A8-6BC6-4D6D-9028-943F3F712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61F619-3E65-475C-8ADF-C77125627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E458D-F17C-45DE-AC02-FA4C7E6A7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FD5E38-7BBA-4B7D-82D2-942576802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A6D5B3-0E7A-4314-8D43-5EC2E642B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DAC582-8F50-4024-A366-A8F696F90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F9C6F4-5433-443B-B29B-82F6A09C1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849CC1-5FCE-4D1C-BD0C-528847905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318BD2-0608-4092-A8F9-2B950C05F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802AC2-F8FA-44B7-83F6-8031A113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7E908C-F94D-4B45-AF69-9F5F24D3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20BA47-977C-42E9-AB37-E2F88308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62645A-06AE-4CE6-9AD3-2FB9A06A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709FD-ABE1-43F6-A5E1-6C6E877E0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9C9859-2B81-44C1-B6F5-BFC964B26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A09014-42FB-412B-AE98-A26796A87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B1EE51-DA31-4023-84C6-C47257565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7B39AB-D8B4-4C71-BA88-06D3E30E8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45C7B70-F182-4819-88C4-921B068B5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E475B8E-E916-439C-9258-45EB0F92E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E3F5A7D-46E4-4691-BFA8-842F489E7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686BC80-E263-4F59-901F-22BFEBCDB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DBEFED-C0C7-4BBC-9993-35A2263DF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3D6EB9C-7AD9-49F4-9427-FE449DCB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27637-65C7-4399-A24D-0CEE90E2C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708787A-760D-47C7-8CA1-AEB79E7C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87D55E7-01B5-4617-B7B4-2AE037E4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9933C2F-B772-455B-9314-9916787B1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BDA0C3E-F47E-47BF-BC70-94765DDB7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F178B98-B44F-40D6-A84B-79626C2A4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B0C80C5-3C4E-4C8C-B4AA-99733C255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0487F5D-0CC2-4687-81ED-8DA649988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C2316D7-5122-4692-AB7D-F9A50C905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0C63DE7-FCDD-4D05-8CA2-DAAE0D2DD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6C33C2C-A96D-4CE0-8E8D-06121D8D6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E3BC5-C340-4011-9598-8E38BFCE3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DEFEDBF-65C5-42A8-873A-CE03A1D99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03202A4-F48F-40BF-BBCD-936BA1D1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9D65418-54DA-4354-A056-60D2CCB4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484827B-3835-4249-A641-B5CFB5A8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BC0A6FF-E4F7-47D5-8ECF-2FC72E6EA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C1E3F5E-6118-47E5-9979-5DF5CED30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DB601DD-440E-44E0-AC27-F47859C11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CD4DD-9B8B-4745-8528-A1135B4BD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AFAF6-4052-4812-9FC6-616AFFDB8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D83F-FF05-4AA0-B7A0-66B1704C0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C8D02-A0F0-4215-8502-BB4FAE0A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2CA84-6E52-4CDE-A009-D6612DC0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676DD-57FD-40E7-A6BA-4D8F838E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E37E1-769C-415C-BB50-35BE2D73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EF8D9-3ACD-4116-BB38-93B3E0E97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9AF92-E2C0-4959-A0D5-690C3EBE8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2E2E6-1B6D-4CEF-9728-186BF824A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D219B-6AEB-425F-B635-74F2FD345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8F3E7-0227-4321-96D9-5157A724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FD46D-4E79-4F7D-9F3B-9B2B1582A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6209-FFEA-44A3-8F0A-4C47D6B4E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FAC6B-B05B-4900-8F11-9EBEFDA5A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D1B3C-B37A-4045-8A21-BE6E552CC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B8EDD-5570-4745-9A28-40EEB1CEB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4CFB7-E1B8-4F21-B445-2853441F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57DA0-ADDB-4050-B57C-29A37A72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0D167-378C-425C-B716-4321FAF4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8F713-DD74-487D-895B-8D5525173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5D3F1-7080-46DC-8E04-12C14E9F4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78000-21AF-4DF8-B650-8B31A1725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49171-74D3-4E36-872A-839F827D6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F158-B86A-4F4B-B234-DC88E6AB1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FD4B0-2796-4EE5-A59B-19B33F371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7FE48-A49B-4760-8227-1F1CBB2B4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DC6BB-37F2-43F1-8CF5-CB55F5F71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9E886-E792-4404-A136-23DA4F417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7A415-455A-4109-B541-A5C896CEA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D9DDD-4C09-4479-86DB-B26D3671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3E82F-8AA9-4E13-A40C-C57EDD4B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D6041-CDA2-42BF-B39C-DFFEAB24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500F2-A903-49CD-BB6B-9FEA556D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3AB74-5344-477E-AA97-1B7F3E651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01DE-259B-4C6B-9783-08EAB7A60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27DB4-BCE9-4E9B-852A-4A2C8DE93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E6E2D-A26B-467A-BB49-D427DE0B5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CB43A-41B3-4B07-BBDE-13FF2004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5C724-E6C5-457A-8578-7625A7DCF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D702B-F188-4C47-9C33-743D50D45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0E62A1-D3E2-4CE3-AFCE-53962BA3A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098D7-A79A-4880-B949-E2C698FB9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17EB9-DB30-496D-9BC9-9370CAE6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BB4014-42BD-4851-A7A7-C39EE155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BBB8F2-4EA1-4B78-8ACB-F019B8B2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0365-C6D4-49C2-80BF-2AA5CFB6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6F61E-D5D1-4622-A8D1-88E8F7692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75019-7B8B-41D4-A3D7-AD75573F0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D6253-F3E3-41DD-B201-E6BA4A5E5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54552F-C1FE-4B38-98C8-63AC1D37C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01A11-3895-4E2D-B142-7F2A5C13C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F125B0-DE76-4960-92EB-43D509884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1C21F-6557-4C7D-B25D-9AD9D1DE8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7B32D-65BF-4F74-A78E-5E3D2D54E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376B7C-D926-4831-980D-FC6DBE40C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B0356F-7050-4F1B-BE17-58BB2246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FB33-9CF2-496D-B2E4-F26E71B2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9223F9-C7C7-415B-BA56-F98CCD91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9310F6-C7AF-4BF9-973D-6ACE536C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7A6332-093B-43B1-81E3-E7F5CA2C8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CC739-08C4-458C-A64A-56BB12A09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E09892-0D64-4EA6-BB9C-3286EDE19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D17D94-141D-4D87-A561-DE2923FCF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4F512C-6B85-4B3E-9FEA-C4AD23822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CF5CF0-0D46-4658-9E9C-724C4629A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592631-2EC8-4B03-8A5A-4CE9CEE33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915F01-D912-442B-8152-DBC1FFD4E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D51A-3FE9-45F2-991D-1CF496C3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8E209-DA82-4223-83A6-E8EB500FB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DD396D-02BB-4B6D-BEB7-4DFC0F6B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194581-7565-4C17-92E6-1261B5C9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59AFE6-8030-493A-A6C9-E55286A1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F6D9E6-41D9-4C36-8E34-C83686A01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95CA15-A0D3-48B9-9E31-08A9BB5AE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33D5C-9454-4060-BB07-119BD3F8C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74EFE7-AFFE-4A46-BF6D-96CEA029B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91F549-B17D-4890-99AA-58670F465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CB9535-E532-4FFA-A109-B33E55679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2E1FC-4521-4F88-87E4-478CF40CFBA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96973-E79F-417A-90F4-0929D00BAE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354C2-4562-471F-93F2-B8B91F8E9B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AB4A4-3C9D-448F-9821-E5765F385F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E1260-8350-4238-A603-2FAF754E48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AE087-3D50-4C6B-A7CA-5A4583CF67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67E96-CDB8-4A9F-9AF7-F22449F767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1792A-3CFD-477E-976C-08B5529D8A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B9F8B-AE58-4AC4-9110-8D8D6D9E8C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30C2C-7B20-4552-8B93-6D0E1D77B6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6B8DF-516A-4FD3-BDA7-96E86EEC4C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28CE3-E4D1-4C8B-97BE-7C26EA7451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E33A7-1BB0-4F15-B7A1-B1F4D27192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6F99B-161D-45B3-A9BA-6742B9DAB7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4C080-B0D3-48DF-A6A4-7F2445CE0D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FFE2B-C574-46EE-99B8-2383A96A5A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AC00D-28DF-4E08-A41B-865BB8A952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B7A0C-9172-4401-9879-9A29DCFAA8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A09F0-D806-420D-9E2D-E341CD7003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2A984-A6F4-4ED3-978B-4C33DFE84F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F6100-AC8C-4B3E-916D-7C29EBA4CF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8361D-C3E5-4F6B-BD3D-EADB19F7833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24794-95B5-4C84-9524-B5DE2CF17D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D1A8F-D951-44B7-8CA3-DCE9F3A6CD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77F54-A08F-4E85-8234-9C6374B73F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340E6-D1C8-4842-BEA8-0D927C7C6F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98869-1FCF-48E4-9BAC-11195906A3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B7830-E2F9-4D67-AA5C-71570B246A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BA77-D99D-4C42-A7AE-B44E059E02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B9D1F-DB8B-479C-8475-F796CA6FC2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F17F6-13FD-4496-9419-8856DABDC2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F77A8-5CBF-4680-9FF1-43145CB03D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36645-EF8B-44AE-B7E5-757EB7EF89D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4FD2-3654-4DD2-94DA-6FE0C69C46A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7E35E-0608-4D8F-BB9B-BB01550575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A3E5D-A11F-4CE5-976E-2B516207F3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E3C57-1B36-4207-A144-45D072B466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12ED7-7BBC-4D15-84BB-C4DB9B9DE2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D9CC3-6ECC-494F-B8D2-29F87055EE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CABBF-6E3C-4808-89A9-1E59928AAF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D427C-1148-4DF4-B8A0-0961D664E8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B97E2-D2FC-4A9E-B635-103330B97A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719280" y="2990880"/>
            <a:ext cx="770400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图片 1" descr=""/>
          <p:cNvPicPr/>
          <p:nvPr/>
        </p:nvPicPr>
        <p:blipFill>
          <a:blip r:embed="rId1"/>
          <a:stretch/>
        </p:blipFill>
        <p:spPr>
          <a:xfrm>
            <a:off x="92160" y="971640"/>
            <a:ext cx="8961480" cy="559116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1" descr=""/>
          <p:cNvPicPr/>
          <p:nvPr/>
        </p:nvPicPr>
        <p:blipFill>
          <a:blip r:embed="rId2"/>
          <a:stretch/>
        </p:blipFill>
        <p:spPr>
          <a:xfrm>
            <a:off x="385920" y="1309680"/>
            <a:ext cx="360360" cy="29052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" descr=""/>
          <p:cNvPicPr/>
          <p:nvPr/>
        </p:nvPicPr>
        <p:blipFill>
          <a:blip r:embed="rId3"/>
          <a:stretch/>
        </p:blipFill>
        <p:spPr>
          <a:xfrm>
            <a:off x="324000" y="2205000"/>
            <a:ext cx="360360" cy="29052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" descr=""/>
          <p:cNvPicPr/>
          <p:nvPr/>
        </p:nvPicPr>
        <p:blipFill>
          <a:blip r:embed="rId4"/>
          <a:stretch/>
        </p:blipFill>
        <p:spPr>
          <a:xfrm>
            <a:off x="324000" y="2852640"/>
            <a:ext cx="360360" cy="29052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5"/>
          <a:stretch/>
        </p:blipFill>
        <p:spPr>
          <a:xfrm>
            <a:off x="324000" y="4086360"/>
            <a:ext cx="360360" cy="29052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6"/>
          <a:stretch/>
        </p:blipFill>
        <p:spPr>
          <a:xfrm>
            <a:off x="324000" y="5950080"/>
            <a:ext cx="36036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图片 1" descr=""/>
          <p:cNvPicPr/>
          <p:nvPr/>
        </p:nvPicPr>
        <p:blipFill>
          <a:blip r:embed="rId1"/>
          <a:stretch/>
        </p:blipFill>
        <p:spPr>
          <a:xfrm>
            <a:off x="1328760" y="2057400"/>
            <a:ext cx="6486480" cy="274320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1" descr=""/>
          <p:cNvPicPr/>
          <p:nvPr/>
        </p:nvPicPr>
        <p:blipFill>
          <a:blip r:embed="rId2"/>
          <a:stretch/>
        </p:blipFill>
        <p:spPr>
          <a:xfrm>
            <a:off x="4284720" y="3213000"/>
            <a:ext cx="1008000" cy="29052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1" descr=""/>
          <p:cNvPicPr/>
          <p:nvPr/>
        </p:nvPicPr>
        <p:blipFill>
          <a:blip r:embed="rId3"/>
          <a:stretch/>
        </p:blipFill>
        <p:spPr>
          <a:xfrm>
            <a:off x="3203640" y="3529080"/>
            <a:ext cx="720720" cy="29052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1" descr=""/>
          <p:cNvPicPr/>
          <p:nvPr/>
        </p:nvPicPr>
        <p:blipFill>
          <a:blip r:embed="rId4"/>
          <a:stretch/>
        </p:blipFill>
        <p:spPr>
          <a:xfrm>
            <a:off x="3276720" y="3848040"/>
            <a:ext cx="720720" cy="27144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5"/>
          <a:stretch/>
        </p:blipFill>
        <p:spPr>
          <a:xfrm>
            <a:off x="3780000" y="4159080"/>
            <a:ext cx="1944360" cy="28116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6"/>
          <a:stretch/>
        </p:blipFill>
        <p:spPr>
          <a:xfrm>
            <a:off x="3348000" y="4508640"/>
            <a:ext cx="72072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9" name="图片 1" descr=""/>
          <p:cNvPicPr/>
          <p:nvPr/>
        </p:nvPicPr>
        <p:blipFill>
          <a:blip r:embed="rId1"/>
          <a:stretch/>
        </p:blipFill>
        <p:spPr>
          <a:xfrm>
            <a:off x="71280" y="1019160"/>
            <a:ext cx="8999640" cy="481968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1" descr=""/>
          <p:cNvPicPr/>
          <p:nvPr/>
        </p:nvPicPr>
        <p:blipFill>
          <a:blip r:embed="rId2"/>
          <a:stretch/>
        </p:blipFill>
        <p:spPr>
          <a:xfrm>
            <a:off x="3400560" y="2236680"/>
            <a:ext cx="360360" cy="29052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1" descr=""/>
          <p:cNvPicPr/>
          <p:nvPr/>
        </p:nvPicPr>
        <p:blipFill>
          <a:blip r:embed="rId3"/>
          <a:stretch/>
        </p:blipFill>
        <p:spPr>
          <a:xfrm>
            <a:off x="6516720" y="2536920"/>
            <a:ext cx="360360" cy="29052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1" descr=""/>
          <p:cNvPicPr/>
          <p:nvPr/>
        </p:nvPicPr>
        <p:blipFill>
          <a:blip r:embed="rId4"/>
          <a:stretch/>
        </p:blipFill>
        <p:spPr>
          <a:xfrm>
            <a:off x="3276720" y="2852640"/>
            <a:ext cx="360360" cy="29052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1" descr=""/>
          <p:cNvPicPr/>
          <p:nvPr/>
        </p:nvPicPr>
        <p:blipFill>
          <a:blip r:embed="rId5"/>
          <a:stretch/>
        </p:blipFill>
        <p:spPr>
          <a:xfrm>
            <a:off x="1692360" y="3160800"/>
            <a:ext cx="360360" cy="29052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1" descr=""/>
          <p:cNvPicPr/>
          <p:nvPr/>
        </p:nvPicPr>
        <p:blipFill>
          <a:blip r:embed="rId6"/>
          <a:stretch/>
        </p:blipFill>
        <p:spPr>
          <a:xfrm>
            <a:off x="5292720" y="3467160"/>
            <a:ext cx="36036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图片 1" descr=""/>
          <p:cNvPicPr/>
          <p:nvPr/>
        </p:nvPicPr>
        <p:blipFill>
          <a:blip r:embed="rId1"/>
          <a:stretch/>
        </p:blipFill>
        <p:spPr>
          <a:xfrm>
            <a:off x="90360" y="1623960"/>
            <a:ext cx="8961480" cy="361008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1" descr=""/>
          <p:cNvPicPr/>
          <p:nvPr/>
        </p:nvPicPr>
        <p:blipFill>
          <a:blip r:embed="rId2"/>
          <a:stretch/>
        </p:blipFill>
        <p:spPr>
          <a:xfrm>
            <a:off x="1187280" y="2317680"/>
            <a:ext cx="1440000" cy="29052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1" descr=""/>
          <p:cNvPicPr/>
          <p:nvPr/>
        </p:nvPicPr>
        <p:blipFill>
          <a:blip r:embed="rId3"/>
          <a:stretch/>
        </p:blipFill>
        <p:spPr>
          <a:xfrm>
            <a:off x="3419640" y="2327400"/>
            <a:ext cx="1223640" cy="29052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" descr=""/>
          <p:cNvPicPr/>
          <p:nvPr/>
        </p:nvPicPr>
        <p:blipFill>
          <a:blip r:embed="rId4"/>
          <a:stretch/>
        </p:blipFill>
        <p:spPr>
          <a:xfrm>
            <a:off x="1954080" y="2930400"/>
            <a:ext cx="2232000" cy="29052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" descr=""/>
          <p:cNvPicPr/>
          <p:nvPr/>
        </p:nvPicPr>
        <p:blipFill>
          <a:blip r:embed="rId5"/>
          <a:stretch/>
        </p:blipFill>
        <p:spPr>
          <a:xfrm>
            <a:off x="1979640" y="3560760"/>
            <a:ext cx="2232000" cy="29052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1" descr=""/>
          <p:cNvPicPr/>
          <p:nvPr/>
        </p:nvPicPr>
        <p:blipFill>
          <a:blip r:embed="rId6"/>
          <a:stretch/>
        </p:blipFill>
        <p:spPr>
          <a:xfrm>
            <a:off x="468360" y="4178160"/>
            <a:ext cx="934920" cy="29052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1" descr=""/>
          <p:cNvPicPr/>
          <p:nvPr/>
        </p:nvPicPr>
        <p:blipFill>
          <a:blip r:embed="rId7"/>
          <a:stretch/>
        </p:blipFill>
        <p:spPr>
          <a:xfrm>
            <a:off x="2124000" y="4189320"/>
            <a:ext cx="1440000" cy="29052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1" descr=""/>
          <p:cNvPicPr/>
          <p:nvPr/>
        </p:nvPicPr>
        <p:blipFill>
          <a:blip r:embed="rId8"/>
          <a:stretch/>
        </p:blipFill>
        <p:spPr>
          <a:xfrm>
            <a:off x="2050920" y="4794120"/>
            <a:ext cx="201636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20:11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